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6.jpeg" ContentType="image/jpe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4C67-4ADD-4C11-8750-B863C21FE6F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D03-D8E1-40F0-ACA5-9269A21309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CA84-5EA6-47AA-9546-E9F7081DAC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16A9-768A-4260-B044-3AABEE4A6E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66E-8DA5-4E4B-B89E-EA1B6CEDB3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10B-B87F-42A0-983E-85F85C4972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CFB1-711D-4F14-AF31-BDB1DE178B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B38-262E-41CF-9796-6E80D581E5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504C-3A6F-4C46-826B-6507ADA106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1C7AE-B5A7-46A2-9472-9C9C24F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8D4C3-DE70-401B-8296-806FE52C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FBC09-CE11-482D-85AF-67A00C3D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D5F8E-A00E-4A01-BF97-14D2A5D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C026-D4FE-4656-ACF0-E84B1ECD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D4268-0904-4A98-913E-F20458C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C2CAD-1167-47EE-8DF7-472BFC0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D29B1-7CA6-47A2-AB62-48CE44AF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6CBE-9DF7-44F7-B43A-869EDF84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5AC66-AF2F-43B3-B321-56730ADD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BA90C-FB33-42C6-A93C-B6BDCECC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04879-B993-4B04-9134-1143AC0C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2661C-5143-4B34-BB55-754C06FE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4AAA2-1E83-4E2D-953E-614C09E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08BCF-EB8F-4C97-B717-F1E2F8ED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B7745-636D-466B-A536-3F92D754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DB064-F33D-41D7-A471-B0D722B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F3AE5-7482-45F5-9085-1D454E4A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D06A-30D2-4D3C-A62F-D5F6ABE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E72A8-66AD-40A9-8ABE-9560A5FA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FB94C-1DBE-4253-8E23-7BADDC94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05401-26D1-4FE3-9B64-1243D820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2C769-DD9C-41E6-B0DA-88CCD1E0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BDAE9-8EBC-473E-BA7B-ED0C4407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D717B-6145-4D5C-B06D-CCB005DB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3E067-EB47-4D7F-B11A-C7A22CE7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53FF8-178C-48F9-9445-0AB6CA3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EDB73-192C-408C-9DCB-489E82C5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C6B40-9DD7-45D1-AFBD-26B0380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16B43-B949-4B37-9099-4E8729E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AA3-3000-42F6-8FF3-680CB585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E0DED-16C8-453A-8B01-D40E2A40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B8D97-15D2-4D3D-85F1-DFFCB615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0CBD7-C4DD-4B6A-8772-97F1031A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340A0-4CF7-45DD-BB65-8E31B020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2E8A8-55EB-4862-88C0-57AF06FC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D746A-66D7-4819-A614-6AC23FB9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13E5B-C5FF-46AC-A020-2E6432C2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EA719-467C-40B4-9CD1-9D745AA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8F64D-6187-4746-AD3A-F7D1A5B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F3871-C9E1-498C-9B3C-688A0DE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587-5707-46A2-A5B1-4AEAD6D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EE38A-63CD-4444-B3D8-C42EBA7C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D47BB-CB85-4CBD-B545-0E00D96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90B82-D6F4-479B-A517-4EE095DC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012F9-10FF-49DA-9BDF-B4764FF6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D2F7D-A08D-4869-84FF-97CAE795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0B258-5C2C-4B25-B8B7-1C587533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68FE2-2A68-4BEC-9415-2081D406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AE658-FDF1-42B8-9AC3-8D974B53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DFFEB-AB34-4950-B467-28DE3900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226B6-95F4-4719-AE90-4BB41ABE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446-2C31-4442-9688-9A896240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6F4D4-D1DF-4427-B0A2-FBAA3D8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3B05E-7926-4756-A809-5F0BC1F9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4ACC4-5DCE-43DD-A266-24AC4806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626AD-5601-4932-8E34-F490B0E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816B7-5848-4CEF-9732-FB9281BA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E75D7-56B3-42FC-BD76-B964F300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8719D-02F2-4DD7-BF19-C4A92BB2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FBD11-D436-4ABD-852E-1D903048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9FF17-6672-4228-B823-E06C84B1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8D5AE-5BF6-4E0B-BB96-AD6FBE0F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B6D-8C54-4112-BECC-710AB18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58E61-3D6F-4904-86FA-92562CD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B05A3-6DF1-41F7-ABFA-AA80E46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8E753-3ADF-4D15-83E8-91EA45A9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A1994-47A8-46FF-BF92-038089B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FEC89-D53E-4C92-9494-2B98273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AB514-C669-429B-B77A-D093C46A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B425A-B1FB-4FE5-8CF6-A873394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4C127-E8EA-447C-B3C7-ED47AE4E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DB823-6F17-4EE0-9514-9BB6381A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B10A7-D0EB-40CF-B80A-6EB3B105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C57-94E0-4DAD-BD03-20E3CCC6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62008-3F1D-420D-89DA-940B321F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E1AD6-2405-4B8C-B4C9-A7895E9B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46381-923E-4C27-8271-435D985E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DA89A-9723-4616-8899-6AEE458C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5DE3B-9069-4CFD-AA6C-B94FAC13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7D610-F111-40E4-B632-68FC8DA2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46991-A3AE-48F1-8628-E85EF170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8DAE6-D8C6-4EE0-9D6F-DF508D0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7BC22-F8B4-470B-B9FF-02C7B7C8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C5EDE-7413-4B5D-B547-E238BDAE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2A8-FD89-42AF-8769-6921E01E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E3569-156B-45B1-98D2-21617147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95C80-A6D6-4708-BCE3-856E1F64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64DE8-A24B-4220-8D21-EA4C2531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0CDCE-92F0-423E-AF74-1164381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0FA05-AB0C-4747-9517-4BF3C636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87097-CEDA-40E1-8F5F-35B29EF1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DD5C8-5647-4758-83C6-5340D3A2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83340-23DD-4B37-AD75-852D34E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314DB-03C1-478C-90D6-EA0C0189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FE307-2F5B-4196-926D-AC92A008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7B0-FD07-4B6E-B50C-C06EFB47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891CA-D6BD-422D-96A4-54C2D368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CE0B4-3A7D-4C0E-9E4F-5D9A939D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554FD-EA03-4A43-A8CD-738F37FD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5582F-07C6-41E2-A78F-F6283D06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89438-AE6B-4FD9-A5BC-73C5879E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B74FF-EDA3-49C1-AC59-DC4AADFC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467E1-BBC0-44E5-8A45-76CEF76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92C03-25CB-461C-B987-6D0D7AC2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3D5FA-9AA3-4570-9E05-9FAA0867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AABEF-917D-4356-90FB-11C12B2E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073-A0E2-43FB-9420-0A5797A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EB9B0-5526-44C4-8D37-1A4EB5B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23F3F-5438-4BD3-9267-C1F95FD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D6B08-DA9E-4B25-8D90-256875B6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4C958-0AE6-4D58-9F26-74A5537E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7D09A-C6C4-4AD9-B557-979BE778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A23B8-41B4-484A-81F2-042D6196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11006-1CDC-4686-AEB9-6F3440F4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2A159-61B9-4E1D-AB68-4F13B0F3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1BE66-B732-4CE6-9934-82DD30C9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2A8C1-32D2-4FCB-9519-67670B8E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DF5-2B9C-4C57-9576-7C415BC4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D484C-36E4-46D3-BD81-85BF3C77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0D36A-3A28-4CB3-9F9A-16FAAC6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77EB1-2E90-453E-94D9-ADC144A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057BF-9072-45E7-B822-DCFEC9C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40DCC-3BD3-4090-BFE0-11CDED2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FD0CA-03DB-48E1-8B47-9E294D2E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28CED-4B20-4500-B76D-BDDEC405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C577E-45D9-42CA-B4B3-AACFF009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7F081-3EE4-4A40-B7B6-1D238A0E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34A54-7831-4720-A14C-D2D2B3A4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6C9-58EF-431A-A22C-0A37B5DF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559D9-7D71-4F91-BCBB-C8394F43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A822F-5A24-435C-AAFE-1F1576FC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9E85D-CBE8-4065-B0B6-FCD44C2C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3C7BB-3B15-44E6-B75E-9782F23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2F814-E835-4C5A-A94B-F7C3F90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F0B37-EAA2-4D8E-9E6A-B79FB66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44554-491E-4920-9A8F-632DCAF4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D4433-ADCF-476C-A812-94CBE29D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E5DA1-7CB2-4489-BCEC-1291ADB5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0FEDA-B9F2-47AA-8453-204F3427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35F-D9B4-401A-BB55-1BA9CB38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4ABA38-5988-4E6F-BBA5-924D2F55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A71C5-DA7C-4B64-9556-72D69D97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56029-E12F-4EEF-BE45-23A7D3F7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AA962-A2E0-4569-9E4C-2DA4E52D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341E3-7D3D-49C7-BFE7-D07A2E4A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2276D-BA2C-40B3-8186-433FC1BD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3127A-A005-4EF0-B48B-220ED41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E1B66-DF28-4E75-A373-6EDC018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C0605-8596-4618-902F-0809F677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CD094-EA44-45C4-82C9-5E129E38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395-C3E5-4CB3-AE99-41F29B64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03E95A-C8F2-45D2-A8F6-476822EE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5120D-EF04-4817-AF31-C0C86D09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717E1-197B-47B5-8F5A-A39F24B4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B8103-2C1D-4728-85E0-5EE4F2F0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4E958-B396-4D7D-86FB-F35F2F66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2845E1-093C-452E-A10E-CBBFB336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E99714-091A-40AB-B606-49CB9A41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4C5B1-7A7C-42BA-B42A-5991B30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333D8-4E7B-43EF-8863-7E1FCC1A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3756D7-3118-4CD0-96E3-94F7C11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26B1-09BC-4A4E-9983-7E3FAC7F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44427-3508-40C5-AD0D-54F6C4AD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6C242-EFF6-4E32-90B3-8FC1727F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DAD76-F8E9-48BA-AAEB-2484337B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873CF-DBC5-4421-BC7B-06162924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EC8FC-D74F-4316-8CC1-117622EB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2F11A-7F41-41B1-A83D-21E11CDF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69791-63DB-45B2-9E1E-07D8CEEC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EB960-EAF3-40BC-B383-F7248BF2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C65EDA-5ABB-4B23-BD93-5DCEAA7D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538D9-A2F3-4553-833E-FABAD61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963E-3060-41A8-89B9-CD9CA7FD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C981D-6B64-4819-B93C-AACA39D4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4254C-7D8A-4DA5-A75C-663A8E46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77841-0F0B-418F-8996-8D363D8A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0EB78-F963-4A70-86C3-58AB9299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31B1E-4077-4089-8B89-85F22C2A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368B1-7CFB-4DF4-AB2A-708B7F9F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B5640-8436-4AE7-91BE-527211CD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0159A-EA17-4DB6-A285-D19980C0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F8782-F886-43D7-8B46-B9D73472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BCC3E-942D-4F0D-B90C-50C2BA78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6D3A-53D7-4D09-853F-DC310F22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827B1-9EF1-4627-A1CE-6166B0F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E3DC2-3B71-4EE2-A561-BF800A3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6F3C0-290F-450F-B182-50112FC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2104A0-5289-4CE8-BF93-45E2E0D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A4893-252F-4840-B918-2F86CBCD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DAB99-D156-4DCD-9F88-604492B8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60D527-9A5C-4A21-9952-46083297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B40C46-D59B-4433-A81B-E01E2301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55ADDE-B420-47FA-84F5-1422B4BB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446EB2-D947-4FF5-9C61-71253A1E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7947-E606-4F25-9D7C-A1F102BC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43485D-CED5-4574-9CF3-62DB3E4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498969-641D-4FFC-A7B1-3B6D679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B63534-2FD0-4AD0-A44C-5A1878D5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F8B9A-2673-4A57-9725-02D0847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5E9D3B-AA99-4A76-B688-CD37DF3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D50A6-9D0E-4589-880D-0F8D3DF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FDDA73-25EB-4B0F-AA6E-9F7DFBD6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2021C1-C0AC-432E-9089-BB5546AC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6130EF-2EF3-450F-A4D8-5B1A0224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849BBD-8EAB-4057-91E0-E10CC144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C5D0-924B-4CEF-92C6-E9FF4DC1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69E1D7-AD6E-4FBC-AB07-FBDB2EC1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371286-53BF-44D4-98E2-2F6C1BE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1EF406-2CF3-4156-947E-6EFB2D66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66C185-19F6-4F48-B283-C62A2A6E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58C517-A87E-4C6E-8402-9AF6267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795472-5FFA-429D-A2A5-8472051A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8FC91B-A6FB-484B-BF22-44AD1AC4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818836-86A8-43E9-BA2E-00B544A0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D970EE-D2CE-48A1-B282-74CBBB22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A35A7F-39BD-4D10-8266-52DEB508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AE60-B036-44DA-A29E-2E161900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DE7C6B-BC57-494F-9A44-9152FBBF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FEE0E7-5D84-44A9-9912-8BFB5C7D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5312A9-20FB-4BAB-89B9-28C2661E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F32499-1E81-40BE-8822-1C1010A8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41D89C-8E3C-4A3D-8AF6-167F200E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CE564E-F373-4BFE-812E-A82764EF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5CB31E-16BE-47CD-8674-36CC3D14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33D179-18D0-4595-B3AB-BE2D2CD1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FFA9CC-6563-4231-8C09-03AC5292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F773B9-263B-441F-8ACD-B8F320D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AA31-D3AF-445E-9598-5B6F92F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FA6AFF-FCA2-47FF-90A0-C1D5975E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30595F-C8E4-4936-98F6-AA07D9F1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03B33C-166E-4520-AE12-EADA4757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A9EAD-A1CD-4F23-965F-E55C878A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EF335E-30C5-4736-BF73-C2929E29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5D8042-382B-41CB-84A1-66451DC7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FA5843-9A7A-471D-B9E3-513B262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485AE3-BE5B-4895-BE25-A85EFF75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90F539-8D27-4168-AD4E-0A969A8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17BA8C-F471-41C2-9277-5E7C742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D1D3-BDD2-43FD-A38C-F3A31C3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FC2766-A3F9-4B2C-BDE0-317E51B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E84DF5-8740-4C2F-959D-F288F92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92CA9D-1472-47CC-850A-8BC6AE7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C8F444-2658-434E-B6DF-EFB3B518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259B13-FDA6-46C1-87DE-3317FD09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9E6AD3-BBC3-4C95-BABD-BC2EF65D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46B9EC-0478-4101-81B1-D5B5B709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BF0294-D386-4D07-A5F2-E56B307A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D510BB-8FBC-4B29-9526-21A0A03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1F6489-B936-42F6-A982-5E310038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7F4F-D33A-49FA-AECF-56F81585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CE7475-D5C8-4995-8CA8-49772675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5FE75E-0019-4E43-BCFE-052A1E0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C588C6-AF78-4567-AE18-EDB4CFD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41BFA4-EDA8-4FE4-A297-DE70B13B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0BCBED-3E83-4460-9C1A-9B2BDB57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73D83E-6994-4ECF-BFA2-5D99404B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F8C5EE-B135-4FE7-B4CF-02B8C48A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6D50-BAAE-44A2-BC02-2155BD77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425-B925-4759-A394-DFF3E5BF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8B64-E0FC-493F-ADED-473206A8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48A5-FDE7-43B8-9462-37006C0F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53BF-2A36-4A7C-82F0-0D6C67BF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D77D-A868-4529-9B29-F166D9B7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73FD-DB86-4323-AAC4-CF42FEFC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FDA4-6B15-4BB4-9AE7-1AC5CCA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571B-4827-4AA1-B3B0-F8D4D6B1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6101-0119-4CC7-8F67-6ACA3FA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AF55-F2AD-4F4A-8041-028609BA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D027-89BC-417B-829B-B78FBFBE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7158-B4E0-43FD-9DE4-F98055F7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7200-8AFE-4AC2-A09B-90FDAE1E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F441-17E4-4389-A277-E48205DF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D442D-24D6-44DE-87B9-982558A5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FCDF-3FEE-4436-B27A-2D262AB3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7C85-11DC-4937-B8A0-C0790D3D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0FBB-3856-4191-B1D1-0AD4EB97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61B0-7563-4804-86CE-0815BF2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D538-5102-4B64-9E02-9CF81EE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5787-867C-429B-B824-5E6844CB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E740-95C7-47B5-AD80-636467C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1BCF-4A60-4685-9D1C-BF14D97C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B204-5507-4B6C-8C82-A1644BF0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C58D-09FC-45F0-A08C-4A24AA85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05E2-67AD-491C-934E-4A6B5D25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BE12C-C039-4F09-BD00-320FC094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D84B-76C8-46D3-85C2-4026E0D7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503A6-2E1F-4010-A6CC-C6F52D6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BACF-FF1F-40A3-9F70-719ED027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1F1B8-B244-4163-B06C-4D19F73C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168E-6540-48A8-9A43-2B8274E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9283E-71A7-4AD4-BB8B-22E95D4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4720-F55D-42D6-9352-C5D9390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131DF-19F7-4BB4-9ECD-A33D935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070B-5D5E-4E75-B846-361FB827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F3150-611B-4509-AAC7-B9524282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7BB6-DA3C-4910-8424-B4291D2E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9088-3B4C-4DE7-A43E-AA73A833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DE87-DFD0-45EA-90BA-D349E20E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9260C-D8F9-44F6-9193-9DD3F9C8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5CF90-5088-4354-B216-773BED3B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120BC-C633-44BF-9812-B445A954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998D6-398E-446B-8CB4-2E031227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C671-911E-4C1D-98F5-F853578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17775-4455-4190-878B-4D30FA9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378AB-ABC1-4962-9FEE-4285EB1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4763-3A24-405B-8C83-1976CF7A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8736-81C3-4181-AF8C-130653B7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524D5-9A38-4A1A-9B54-26110B2F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7DC8F-E218-468B-B269-3EDCEDAB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D5E2B-679D-4911-9164-C85A05F8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CC357-862D-48CC-ADE5-F2376AF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9DBA-A095-44E7-B755-636494D1CF9B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F756-5A63-4119-AA1F-66AB82E473F3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C2C-DC9D-4985-B156-A4A735B0DA80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A42-4DEF-49E2-8453-EAF4D41F6FE3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94E-A4EA-430E-907B-0682E1BE177E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AE03-F37E-40CF-8A9B-5FC6AAA21B6C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96A3-5281-488A-9E87-841F272F180B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336-8514-48DC-9239-75D9F0AAD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6462-203E-4D81-BB7C-177084F3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7366-CF1C-4D53-B845-CB42C81BB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B33F-1C7F-45EF-BA73-42568638EFA4}" type="slidenum">
              <a: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410D-5612-49A1-89D8-CA800FD7B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B7E4-9B1D-4BE5-AE10-4D4C59892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E1D5-F5C3-4353-82B2-5744C66AD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45F-A8C9-4430-8633-661259B6B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2613-D092-4F97-8C8F-AE9880B62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040-A321-4A7E-83FF-CAC532492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083B-9265-4A35-B521-2DF11955B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11CA-A0F7-491D-A156-CED400CBF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9082-CA1C-4A11-8346-CCF789EE7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5BBA-C21D-48FD-934D-D79C693FF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al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371160"/>
            <a:ext cx="53341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5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45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71680" y="888840"/>
            <a:ext cx="85723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71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C925-91E7-4C85-9336-30D3494F9EFF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098-DE10-4AD1-B147-BAFD5361173E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C363-3088-443E-A89A-682C157103B7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8BE3-4DC2-4B66-B760-16A09770C45C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770F-CB94-4407-91EF-D500609D14AA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redator-Prey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  <a:ea typeface="DejaVu Sans"/>
              </a:rPr>
              <a:t>Generic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78" name="Picture 4" descr=""/>
          <p:cNvPicPr/>
          <p:nvPr/>
        </p:nvPicPr>
        <p:blipFill>
          <a:blip r:embed="rId1"/>
          <a:srcRect l="1633" t="0" r="1633" b="0"/>
          <a:stretch/>
        </p:blipFill>
        <p:spPr>
          <a:xfrm>
            <a:off x="1116000" y="1413000"/>
            <a:ext cx="5904000" cy="2200320"/>
          </a:xfrm>
          <a:prstGeom prst="rect">
            <a:avLst/>
          </a:prstGeom>
          <a:ln w="0">
            <a:noFill/>
          </a:ln>
        </p:spPr>
      </p:pic>
      <p:sp>
        <p:nvSpPr>
          <p:cNvPr id="1279" name="Text Box 3"/>
          <p:cNvSpPr/>
          <p:nvPr/>
        </p:nvSpPr>
        <p:spPr>
          <a:xfrm>
            <a:off x="1149120" y="4149720"/>
            <a:ext cx="682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f(x): prey growth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g(y): predator mortalit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h(x, y): predation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e: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Lotka-Volterra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81" name="Picture 5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113440" cy="2390760"/>
          </a:xfrm>
          <a:prstGeom prst="rect">
            <a:avLst/>
          </a:prstGeom>
          <a:ln w="0">
            <a:noFill/>
          </a:ln>
        </p:spPr>
      </p:pic>
      <p:sp>
        <p:nvSpPr>
          <p:cNvPr id="1282" name="Text Box 4"/>
          <p:cNvSpPr/>
          <p:nvPr/>
        </p:nvSpPr>
        <p:spPr>
          <a:xfrm>
            <a:off x="1289520" y="4737240"/>
            <a:ext cx="664704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e: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 and b: predation coefficients (b=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2" descr="figure 18-10 #19010.jpg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838080" y="933480"/>
            <a:ext cx="7772400" cy="592452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Geneva"/>
              </a:rPr>
              <a:t>Predator-prey population fluctuations in Lotka-Volterra mod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at populations of rabbits and wolves are described by the Lotka-Volterra equations wit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8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0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sured in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initially 40 wolfes and 1000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rabbits population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4"/>
          <p:cNvSpPr/>
          <p:nvPr/>
        </p:nvSpPr>
        <p:spPr>
          <a:xfrm>
            <a:off x="1427760" y="5157720"/>
            <a:ext cx="58089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: prey mortality by pre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b: predation growth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hase plan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572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 of one species in relation to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Picture 11" descr="090602"/>
          <p:cNvPicPr/>
          <p:nvPr/>
        </p:nvPicPr>
        <p:blipFill>
          <a:blip r:embed="rId1"/>
          <a:stretch/>
        </p:blipFill>
        <p:spPr>
          <a:xfrm>
            <a:off x="1187280" y="2060640"/>
            <a:ext cx="6193080" cy="45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hase trajectories: solution curv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71680" y="1268280"/>
            <a:ext cx="85723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hase trajectory is a path traced out  by solution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ime goes 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Picture 10" descr="090602"/>
          <p:cNvPicPr/>
          <p:nvPr/>
        </p:nvPicPr>
        <p:blipFill>
          <a:blip r:embed="rId1"/>
          <a:stretch/>
        </p:blipFill>
        <p:spPr>
          <a:xfrm>
            <a:off x="1547640" y="2565360"/>
            <a:ext cx="5545440" cy="40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quilibrium poi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394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oint (1000, 80) is inside all the solution curves.  It corresponds to the  equilibrium solution 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00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80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Picture 13" descr="090602"/>
          <p:cNvPicPr/>
          <p:nvPr/>
        </p:nvPicPr>
        <p:blipFill>
          <a:blip r:embed="rId1"/>
          <a:stretch/>
        </p:blipFill>
        <p:spPr>
          <a:xfrm>
            <a:off x="1692360" y="2565360"/>
            <a:ext cx="5400720" cy="39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cknowledgments and than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hanks to the following professors for making slides available on the internet that were reused by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dessamad Tridane (AS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een Ledder (Univ of Nebras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ger Day (Illinois State Univers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2" descr="figure 17-03.jpg                                               0000A6A3Discovering 2.0 IRCD           B562F59D:"/>
          <p:cNvPicPr/>
          <p:nvPr/>
        </p:nvPicPr>
        <p:blipFill>
          <a:blip r:embed="rId1"/>
          <a:stretch/>
        </p:blipFill>
        <p:spPr>
          <a:xfrm>
            <a:off x="584280" y="1484280"/>
            <a:ext cx="8535960" cy="4707000"/>
          </a:xfrm>
          <a:prstGeom prst="rect">
            <a:avLst/>
          </a:prstGeom>
          <a:ln w="0">
            <a:noFill/>
          </a:ln>
        </p:spPr>
      </p:pic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nature red in tooth and claw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4" descr="http://www-rohan.sdsu.edu/~jmahaffy/courses/f00/math122/lectures/qual_de2/images/mr285.jpg"/>
          <p:cNvPicPr/>
          <p:nvPr/>
        </p:nvPicPr>
        <p:blipFill>
          <a:blip r:embed="rId1"/>
          <a:stretch/>
        </p:blipFill>
        <p:spPr>
          <a:xfrm>
            <a:off x="826920" y="476280"/>
            <a:ext cx="7078680" cy="4719600"/>
          </a:xfrm>
          <a:prstGeom prst="rect">
            <a:avLst/>
          </a:prstGeom>
          <a:ln w="0">
            <a:noFill/>
          </a:ln>
        </p:spPr>
      </p:pic>
      <p:sp>
        <p:nvSpPr>
          <p:cNvPr id="1218" name="TextBox 4"/>
          <p:cNvSpPr/>
          <p:nvPr/>
        </p:nvSpPr>
        <p:spPr>
          <a:xfrm>
            <a:off x="826920" y="5373720"/>
            <a:ext cx="7778880" cy="94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ne species uses another as a food resource: lynx and har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Picture 2" descr="figure 18-01b.jpg     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56386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The Hudson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s Bay Company 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" descr="figure 18-02 #1902.jpg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971640" y="1449360"/>
            <a:ext cx="7345440" cy="5432400"/>
          </a:xfrm>
          <a:prstGeom prst="rect">
            <a:avLst/>
          </a:prstGeom>
          <a:ln w="0">
            <a:noFill/>
          </a:ln>
        </p:spPr>
      </p:pic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hare and lynx populations (Canada)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826920" y="10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Note regular periodicity, and lag by lynx population peaks just after hare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486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incipal cause of death among the pre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being eaten by a pred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rth and survival rates of the predators depe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ir available food supply—namely, the pr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6" name="Picture 1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3673440" cy="27540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2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129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38836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</a:rPr>
              <a:t>Two species encounter each other at a rate that is proportional to both population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Picture 1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6466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3"/>
          <p:cNvSpPr/>
          <p:nvPr/>
        </p:nvSpPr>
        <p:spPr>
          <a:xfrm>
            <a:off x="2818800" y="153180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Calibri"/>
                <a:ea typeface="Calibri"/>
              </a:rPr>
              <a:t>normal pre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4"/>
          <p:cNvGrpSpPr/>
          <p:nvPr/>
        </p:nvGrpSpPr>
        <p:grpSpPr>
          <a:xfrm>
            <a:off x="564120" y="1892160"/>
            <a:ext cx="3107880" cy="1341720"/>
            <a:chOff x="564120" y="1892160"/>
            <a:chExt cx="3107880" cy="1341720"/>
          </a:xfrm>
        </p:grpSpPr>
        <p:sp>
          <p:nvSpPr>
            <p:cNvPr id="1233" name="AutoShape 5"/>
            <p:cNvSpPr/>
            <p:nvPr/>
          </p:nvSpPr>
          <p:spPr>
            <a:xfrm>
              <a:off x="2300400" y="209088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"/>
            <p:cNvSpPr/>
            <p:nvPr/>
          </p:nvSpPr>
          <p:spPr>
            <a:xfrm>
              <a:off x="564120" y="1892160"/>
              <a:ext cx="187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prey pop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4967280" y="1895400"/>
            <a:ext cx="3537000" cy="2982600"/>
            <a:chOff x="4967280" y="1895400"/>
            <a:chExt cx="3537000" cy="2982600"/>
          </a:xfrm>
        </p:grpSpPr>
        <p:grpSp>
          <p:nvGrpSpPr>
            <p:cNvPr id="1236" name="Group 8"/>
            <p:cNvGrpSpPr/>
            <p:nvPr/>
          </p:nvGrpSpPr>
          <p:grpSpPr>
            <a:xfrm>
              <a:off x="4967280" y="2857680"/>
              <a:ext cx="1371600" cy="1368000"/>
              <a:chOff x="4967280" y="2857680"/>
              <a:chExt cx="1371600" cy="1368000"/>
            </a:xfrm>
          </p:grpSpPr>
          <p:pic>
            <p:nvPicPr>
              <p:cNvPr id="1237" name="Picture 9" descr="hare_OUTLINE"/>
              <p:cNvPicPr/>
              <p:nvPr/>
            </p:nvPicPr>
            <p:blipFill>
              <a:blip r:embed="rId1"/>
              <a:srcRect l="0" t="16798" r="0" b="16798"/>
              <a:stretch/>
            </p:blipFill>
            <p:spPr>
              <a:xfrm>
                <a:off x="4968000" y="285768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Picture 10" descr="hare"/>
              <p:cNvPicPr/>
              <p:nvPr/>
            </p:nvPicPr>
            <p:blipFill>
              <a:blip r:embed="rId2"/>
              <a:srcRect l="0" t="16798" r="0" b="16798"/>
              <a:stretch/>
            </p:blipFill>
            <p:spPr>
              <a:xfrm>
                <a:off x="4967280" y="286056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9" name="Group 11"/>
            <p:cNvGrpSpPr/>
            <p:nvPr/>
          </p:nvGrpSpPr>
          <p:grpSpPr>
            <a:xfrm>
              <a:off x="6116760" y="2859120"/>
              <a:ext cx="1371600" cy="1368000"/>
              <a:chOff x="6116760" y="2859120"/>
              <a:chExt cx="1371600" cy="1368000"/>
            </a:xfrm>
          </p:grpSpPr>
          <p:pic>
            <p:nvPicPr>
              <p:cNvPr id="1240" name="Picture 12" descr="hare_OUTLINE"/>
              <p:cNvPicPr/>
              <p:nvPr/>
            </p:nvPicPr>
            <p:blipFill>
              <a:blip r:embed="rId3"/>
              <a:srcRect l="0" t="16798" r="0" b="16798"/>
              <a:stretch/>
            </p:blipFill>
            <p:spPr>
              <a:xfrm>
                <a:off x="6117480" y="285912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13" descr="hare"/>
              <p:cNvPicPr/>
              <p:nvPr/>
            </p:nvPicPr>
            <p:blipFill>
              <a:blip r:embed="rId4"/>
              <a:srcRect l="0" t="16798" r="0" b="16798"/>
              <a:stretch/>
            </p:blipFill>
            <p:spPr>
              <a:xfrm>
                <a:off x="6116760" y="286200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14"/>
            <p:cNvGrpSpPr/>
            <p:nvPr/>
          </p:nvGrpSpPr>
          <p:grpSpPr>
            <a:xfrm>
              <a:off x="4969080" y="3510000"/>
              <a:ext cx="1371600" cy="1368000"/>
              <a:chOff x="4969080" y="3510000"/>
              <a:chExt cx="1371600" cy="1368000"/>
            </a:xfrm>
          </p:grpSpPr>
          <p:pic>
            <p:nvPicPr>
              <p:cNvPr id="1243" name="Picture 15" descr="hare_OUTLINE"/>
              <p:cNvPicPr/>
              <p:nvPr/>
            </p:nvPicPr>
            <p:blipFill>
              <a:blip r:embed="rId5"/>
              <a:srcRect l="0" t="16798" r="0" b="16798"/>
              <a:stretch/>
            </p:blipFill>
            <p:spPr>
              <a:xfrm>
                <a:off x="4969800" y="351000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Picture 16" descr="hare"/>
              <p:cNvPicPr/>
              <p:nvPr/>
            </p:nvPicPr>
            <p:blipFill>
              <a:blip r:embed="rId6"/>
              <a:srcRect l="0" t="16798" r="0" b="16798"/>
              <a:stretch/>
            </p:blipFill>
            <p:spPr>
              <a:xfrm>
                <a:off x="4969080" y="351288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5" name="Group 17"/>
            <p:cNvGrpSpPr/>
            <p:nvPr/>
          </p:nvGrpSpPr>
          <p:grpSpPr>
            <a:xfrm>
              <a:off x="6116760" y="3505320"/>
              <a:ext cx="1371600" cy="1368000"/>
              <a:chOff x="6116760" y="3505320"/>
              <a:chExt cx="1371600" cy="1368000"/>
            </a:xfrm>
          </p:grpSpPr>
          <p:pic>
            <p:nvPicPr>
              <p:cNvPr id="1246" name="Picture 18" descr="hare_OUTLINE"/>
              <p:cNvPicPr/>
              <p:nvPr/>
            </p:nvPicPr>
            <p:blipFill>
              <a:blip r:embed="rId7"/>
              <a:srcRect l="0" t="16798" r="0" b="16798"/>
              <a:stretch/>
            </p:blipFill>
            <p:spPr>
              <a:xfrm>
                <a:off x="6117480" y="350532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7" name="Picture 19" descr="hare"/>
              <p:cNvPicPr/>
              <p:nvPr/>
            </p:nvPicPr>
            <p:blipFill>
              <a:blip r:embed="rId8"/>
              <a:srcRect l="0" t="16798" r="0" b="16798"/>
              <a:stretch/>
            </p:blipFill>
            <p:spPr>
              <a:xfrm>
                <a:off x="6116760" y="350820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8" name="AutoShape 20"/>
            <p:cNvSpPr/>
            <p:nvPr/>
          </p:nvSpPr>
          <p:spPr>
            <a:xfrm rot="5400000">
              <a:off x="5400360" y="2217600"/>
              <a:ext cx="1143000" cy="114300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1"/>
            <p:cNvSpPr/>
            <p:nvPr/>
          </p:nvSpPr>
          <p:spPr>
            <a:xfrm>
              <a:off x="6572520" y="1895400"/>
              <a:ext cx="19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prey popul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22"/>
          <p:cNvGrpSpPr/>
          <p:nvPr/>
        </p:nvGrpSpPr>
        <p:grpSpPr>
          <a:xfrm>
            <a:off x="6408720" y="2733840"/>
            <a:ext cx="2895480" cy="2866320"/>
            <a:chOff x="6408720" y="2733840"/>
            <a:chExt cx="2895480" cy="2866320"/>
          </a:xfrm>
        </p:grpSpPr>
        <p:sp>
          <p:nvSpPr>
            <p:cNvPr id="1251" name="Rectangle 23"/>
            <p:cNvSpPr/>
            <p:nvPr/>
          </p:nvSpPr>
          <p:spPr>
            <a:xfrm>
              <a:off x="6408720" y="468324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  <a:ea typeface="Calibri"/>
                </a:rPr>
                <a:t>predator population increas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  <a:ea typeface="Calibri"/>
                </a:rPr>
                <a:t>as more f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Group 24"/>
            <p:cNvGrpSpPr/>
            <p:nvPr/>
          </p:nvGrpSpPr>
          <p:grpSpPr>
            <a:xfrm>
              <a:off x="6911640" y="2733840"/>
              <a:ext cx="1539360" cy="1982520"/>
              <a:chOff x="6911640" y="2733840"/>
              <a:chExt cx="1539360" cy="1982520"/>
            </a:xfrm>
          </p:grpSpPr>
          <p:pic>
            <p:nvPicPr>
              <p:cNvPr id="1253" name="Picture 25" descr="hare_OUTLINE"/>
              <p:cNvPicPr/>
              <p:nvPr/>
            </p:nvPicPr>
            <p:blipFill>
              <a:blip r:embed="rId9"/>
              <a:srcRect l="12598" t="16798" r="12598" b="16798"/>
              <a:stretch/>
            </p:blipFill>
            <p:spPr>
              <a:xfrm flipH="1">
                <a:off x="6911640" y="2733840"/>
                <a:ext cx="1435320" cy="19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Picture 26" descr="cat"/>
              <p:cNvPicPr/>
              <p:nvPr/>
            </p:nvPicPr>
            <p:blipFill>
              <a:blip r:embed="rId10"/>
              <a:srcRect l="12598" t="16798" r="12598" b="16798"/>
              <a:stretch/>
            </p:blipFill>
            <p:spPr>
              <a:xfrm flipH="1">
                <a:off x="7014960" y="2802960"/>
                <a:ext cx="1436040" cy="1913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Group 27"/>
            <p:cNvGrpSpPr/>
            <p:nvPr/>
          </p:nvGrpSpPr>
          <p:grpSpPr>
            <a:xfrm>
              <a:off x="7748640" y="2746440"/>
              <a:ext cx="1539000" cy="1982880"/>
              <a:chOff x="7748640" y="2746440"/>
              <a:chExt cx="1539000" cy="1982880"/>
            </a:xfrm>
          </p:grpSpPr>
          <p:pic>
            <p:nvPicPr>
              <p:cNvPr id="1256" name="Picture 28" descr="hare_OUTLINE"/>
              <p:cNvPicPr/>
              <p:nvPr/>
            </p:nvPicPr>
            <p:blipFill>
              <a:blip r:embed="rId11"/>
              <a:srcRect l="12598" t="16798" r="12598" b="16798"/>
              <a:stretch/>
            </p:blipFill>
            <p:spPr>
              <a:xfrm flipH="1">
                <a:off x="7748640" y="2746440"/>
                <a:ext cx="1434960" cy="19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Picture 29" descr="cat"/>
              <p:cNvPicPr/>
              <p:nvPr/>
            </p:nvPicPr>
            <p:blipFill>
              <a:blip r:embed="rId12"/>
              <a:srcRect l="12598" t="16798" r="12598" b="16798"/>
              <a:stretch/>
            </p:blipFill>
            <p:spPr>
              <a:xfrm flipH="1">
                <a:off x="7851960" y="2815560"/>
                <a:ext cx="1435680" cy="1913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58" name="Group 30"/>
          <p:cNvGrpSpPr/>
          <p:nvPr/>
        </p:nvGrpSpPr>
        <p:grpSpPr>
          <a:xfrm>
            <a:off x="539640" y="2730600"/>
            <a:ext cx="2845080" cy="3118320"/>
            <a:chOff x="539640" y="2730600"/>
            <a:chExt cx="2845080" cy="3118320"/>
          </a:xfrm>
        </p:grpSpPr>
        <p:sp>
          <p:nvSpPr>
            <p:cNvPr id="1259" name="AutoShape 31"/>
            <p:cNvSpPr/>
            <p:nvPr/>
          </p:nvSpPr>
          <p:spPr>
            <a:xfrm rot="16200000">
              <a:off x="2127240" y="455904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2"/>
            <p:cNvSpPr/>
            <p:nvPr/>
          </p:nvSpPr>
          <p:spPr>
            <a:xfrm>
              <a:off x="539640" y="4657680"/>
              <a:ext cx="205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  <a:ea typeface="Calibri"/>
                </a:rPr>
                <a:t>predator population 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  <a:ea typeface="Calibri"/>
                </a:rPr>
                <a:t>as less f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1" name="Group 33"/>
            <p:cNvGrpSpPr/>
            <p:nvPr/>
          </p:nvGrpSpPr>
          <p:grpSpPr>
            <a:xfrm>
              <a:off x="1079640" y="2730600"/>
              <a:ext cx="1539360" cy="1982520"/>
              <a:chOff x="1079640" y="2730600"/>
              <a:chExt cx="1539360" cy="1982520"/>
            </a:xfrm>
          </p:grpSpPr>
          <p:pic>
            <p:nvPicPr>
              <p:cNvPr id="1262" name="Picture 34" descr="hare_OUTLINE"/>
              <p:cNvPicPr/>
              <p:nvPr/>
            </p:nvPicPr>
            <p:blipFill>
              <a:blip r:embed="rId13"/>
              <a:srcRect l="12598" t="16798" r="12598" b="16798"/>
              <a:stretch/>
            </p:blipFill>
            <p:spPr>
              <a:xfrm flipH="1">
                <a:off x="1079640" y="2730600"/>
                <a:ext cx="1435320" cy="19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Picture 35" descr="cat"/>
              <p:cNvPicPr/>
              <p:nvPr/>
            </p:nvPicPr>
            <p:blipFill>
              <a:blip r:embed="rId14"/>
              <a:srcRect l="12598" t="16798" r="12598" b="16798"/>
              <a:stretch/>
            </p:blipFill>
            <p:spPr>
              <a:xfrm flipH="1">
                <a:off x="1182960" y="2799720"/>
                <a:ext cx="1436040" cy="191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4" name="Group 37"/>
          <p:cNvGrpSpPr/>
          <p:nvPr/>
        </p:nvGrpSpPr>
        <p:grpSpPr>
          <a:xfrm>
            <a:off x="3740040" y="1506600"/>
            <a:ext cx="1371600" cy="1368000"/>
            <a:chOff x="3740040" y="1506600"/>
            <a:chExt cx="1371600" cy="1368000"/>
          </a:xfrm>
        </p:grpSpPr>
        <p:pic>
          <p:nvPicPr>
            <p:cNvPr id="1265" name="Picture 38" descr="hare_OUTLINE"/>
            <p:cNvPicPr/>
            <p:nvPr/>
          </p:nvPicPr>
          <p:blipFill>
            <a:blip r:embed="rId15"/>
            <a:srcRect l="0" t="16798" r="0" b="16798"/>
            <a:stretch/>
          </p:blipFill>
          <p:spPr>
            <a:xfrm>
              <a:off x="3740760" y="1506600"/>
              <a:ext cx="137088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39" descr="hare"/>
            <p:cNvPicPr/>
            <p:nvPr/>
          </p:nvPicPr>
          <p:blipFill>
            <a:blip r:embed="rId16"/>
            <a:srcRect l="0" t="16798" r="0" b="16798"/>
            <a:stretch/>
          </p:blipFill>
          <p:spPr>
            <a:xfrm>
              <a:off x="3740040" y="1509480"/>
              <a:ext cx="137088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Group 40"/>
          <p:cNvGrpSpPr/>
          <p:nvPr/>
        </p:nvGrpSpPr>
        <p:grpSpPr>
          <a:xfrm>
            <a:off x="3672000" y="2155680"/>
            <a:ext cx="1371600" cy="1368360"/>
            <a:chOff x="3672000" y="2155680"/>
            <a:chExt cx="1371600" cy="1368360"/>
          </a:xfrm>
        </p:grpSpPr>
        <p:pic>
          <p:nvPicPr>
            <p:cNvPr id="1268" name="Picture 41" descr="hare_OUTLINE"/>
            <p:cNvPicPr/>
            <p:nvPr/>
          </p:nvPicPr>
          <p:blipFill>
            <a:blip r:embed="rId17"/>
            <a:srcRect l="0" t="16798" r="0" b="16798"/>
            <a:stretch/>
          </p:blipFill>
          <p:spPr>
            <a:xfrm>
              <a:off x="3672720" y="2155680"/>
              <a:ext cx="1370880" cy="136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42" descr="hare"/>
            <p:cNvPicPr/>
            <p:nvPr/>
          </p:nvPicPr>
          <p:blipFill>
            <a:blip r:embed="rId18"/>
            <a:srcRect l="0" t="16798" r="0" b="16798"/>
            <a:stretch/>
          </p:blipFill>
          <p:spPr>
            <a:xfrm>
              <a:off x="3672000" y="2158560"/>
              <a:ext cx="1370880" cy="136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Group 43"/>
          <p:cNvGrpSpPr/>
          <p:nvPr/>
        </p:nvGrpSpPr>
        <p:grpSpPr>
          <a:xfrm>
            <a:off x="2539080" y="4682880"/>
            <a:ext cx="3999960" cy="1846440"/>
            <a:chOff x="2539080" y="4682880"/>
            <a:chExt cx="3999960" cy="1846440"/>
          </a:xfrm>
        </p:grpSpPr>
        <p:sp>
          <p:nvSpPr>
            <p:cNvPr id="1271" name="AutoShape 44"/>
            <p:cNvSpPr/>
            <p:nvPr/>
          </p:nvSpPr>
          <p:spPr>
            <a:xfrm rot="10800000">
              <a:off x="5167440" y="468288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45"/>
            <p:cNvSpPr/>
            <p:nvPr/>
          </p:nvSpPr>
          <p:spPr>
            <a:xfrm>
              <a:off x="2539080" y="5856120"/>
              <a:ext cx="3033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prey population 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  <a:ea typeface="Calibri"/>
                </a:rPr>
                <a:t>because of more pred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3" name="Group 46"/>
            <p:cNvGrpSpPr/>
            <p:nvPr/>
          </p:nvGrpSpPr>
          <p:grpSpPr>
            <a:xfrm>
              <a:off x="3743280" y="4746600"/>
              <a:ext cx="1371600" cy="1368000"/>
              <a:chOff x="3743280" y="4746600"/>
              <a:chExt cx="1371600" cy="1368000"/>
            </a:xfrm>
          </p:grpSpPr>
          <p:pic>
            <p:nvPicPr>
              <p:cNvPr id="1274" name="Picture 47" descr="hare_OUTLINE"/>
              <p:cNvPicPr/>
              <p:nvPr/>
            </p:nvPicPr>
            <p:blipFill>
              <a:blip r:embed="rId19"/>
              <a:srcRect l="0" t="16798" r="0" b="16798"/>
              <a:stretch/>
            </p:blipFill>
            <p:spPr>
              <a:xfrm>
                <a:off x="3744000" y="474660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Picture 48" descr="hare"/>
              <p:cNvPicPr/>
              <p:nvPr/>
            </p:nvPicPr>
            <p:blipFill>
              <a:blip r:embed="rId20"/>
              <a:srcRect l="0" t="16798" r="0" b="16798"/>
              <a:stretch/>
            </p:blipFill>
            <p:spPr>
              <a:xfrm>
                <a:off x="3743280" y="474948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cyc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Pedro Andrade</cp:lastModifiedBy>
  <cp:lastPrinted>2012-10-26T17:22:49Z</cp:lastPrinted>
  <dcterms:modified xsi:type="dcterms:W3CDTF">2016-07-19T17:57:45Z</dcterms:modified>
  <cp:revision>478</cp:revision>
  <dc:subject/>
  <dc:title>Low-carbon growth in Brazil?</dc:title>
</cp:coreProperties>
</file>